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67BC-6427-4348-A99E-39BF9A088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B8EB-365F-4FCF-8270-915127F7E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0E83-1475-44DD-9910-89D4D7416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5D1A-6BBC-4DD6-8EBB-7AD9B2B78E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8F33-65E8-4272-A711-45E4D9C63B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7B27-F271-47A3-A431-AA185509F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4ABB-B4C5-40BA-9A34-1B1C1F2BD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413-FB1C-49F2-BC05-036509003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C492-AAB2-44ED-AFD0-70FDF6E014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822F-7CFB-4EC8-BE46-32D19E915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D5AD-B43A-4E56-8BB7-30E002380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8DD2-34D2-4EE7-9328-82D60B41B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834F-5640-45B2-878E-E010E0698C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63FF-635B-4F76-A1E0-2EBB4F64E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DDAB-122E-4267-813E-801A3C66D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EFDE-0036-46F2-9082-3F72EDC38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54B9-1548-4189-9BC7-F3DF9953C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9820-754F-48F3-921B-E0519038B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B8A4-3B11-4FEC-9C9D-514E6411F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6E3-5F09-4C4F-BD4C-22AD09897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FC2E-23BE-4572-9BCF-EDF6E5C58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6DAF-3660-4520-88C5-CCE74AC85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632C-41CA-4B77-9F45-9E3CA9D8A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8FD-8D2B-4D1C-9AA7-884A01AC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4D3-19FA-48A8-ACED-403CF00D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618-E34B-4971-9DEF-433A56A8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323-3D67-466A-B77E-FE610E51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FC7-F3A2-492B-B6CF-16FB229B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0A9-AB44-4713-861D-F61CE534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738-012D-40FD-A1D3-614FF44D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8C2-7288-4F00-88AE-8E6757EC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100-A312-40B7-8B42-1A659B52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2A4-4D82-4753-97C9-B9C99BEA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B12-0C40-4B89-9552-51B4300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D6F-BB10-47AD-84EB-5C5C5F5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787D-49A3-4DBD-ABD3-E7C147768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каждой цветности соответствует своя длина и частота волн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2133720"/>
          <a:ext cx="8686800" cy="401472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3080"/>
                <a:gridCol w="1238400"/>
                <a:gridCol w="1243080"/>
                <a:gridCol w="1239840"/>
                <a:gridCol w="12412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53"/>
          <p:cNvSpPr/>
          <p:nvPr/>
        </p:nvSpPr>
        <p:spPr>
          <a:xfrm>
            <a:off x="228600" y="76212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Монохроматический свет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одноцветный св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{CC7D31B8-2436-4C20-B59F-F532F0280E80}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исперсия – явление разложения белого света в спек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елый свет – сложный, состоит из монохроматических цв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реды зависит от цвета света (фиол., красн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вета в среде зависит от его част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3e20"/>
                </a:solidFill>
                <a:latin typeface="Arial Black"/>
              </a:rPr>
              <a:t>Томас Юн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609480"/>
            <a:ext cx="3429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9900"/>
                </a:solidFill>
                <a:latin typeface="Arial Black"/>
              </a:rPr>
              <a:t>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Arial Black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99ff"/>
                </a:solidFill>
                <a:latin typeface="Arial Black"/>
              </a:rPr>
              <a:t>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 Black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Бел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 Black"/>
              </a:rPr>
              <a:t>180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young"/>
          <p:cNvPicPr/>
          <p:nvPr/>
        </p:nvPicPr>
        <p:blipFill>
          <a:blip r:embed="rId1"/>
          <a:stretch/>
        </p:blipFill>
        <p:spPr>
          <a:xfrm>
            <a:off x="533520" y="1828800"/>
            <a:ext cx="3735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RGB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osn_tsveta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52680" y="32000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словия возникновения радуги:</a:t>
            </a:r>
            <a:br>
              <a:rPr sz="20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1.Радуга появляется, только когда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выглянуло из-за туч солнце и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только в стороне, противоположной 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солнцу.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2.Радуга возникает, когда солнце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освещает завесу дождя.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3.Радуга появляется при условии, что 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угловая высота солнца над  горизонтом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не превышает 42 градус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се лучи лесов зелены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се болотные кувшин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а земле когда увяну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сцветают снова в н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A0TD5PM"/>
          <p:cNvPicPr/>
          <p:nvPr/>
        </p:nvPicPr>
        <p:blipFill>
          <a:blip r:embed="rId1"/>
          <a:stretch/>
        </p:blipFill>
        <p:spPr>
          <a:xfrm>
            <a:off x="5867280" y="914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44"/>
          <p:cNvPicPr/>
          <p:nvPr/>
        </p:nvPicPr>
        <p:blipFill>
          <a:blip r:embed="rId2"/>
          <a:stretch/>
        </p:blipFill>
        <p:spPr>
          <a:xfrm>
            <a:off x="533520" y="3200400"/>
            <a:ext cx="241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61722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водяной капле происходят следующие оптическ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яв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9"/>
          <p:cNvGraphicFramePr/>
          <p:nvPr/>
        </p:nvGraphicFramePr>
        <p:xfrm>
          <a:off x="228600" y="2514600"/>
          <a:ext cx="5257800" cy="38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525780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12"/>
          <p:cNvSpPr/>
          <p:nvPr/>
        </p:nvSpPr>
        <p:spPr>
          <a:xfrm>
            <a:off x="5867280" y="220968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еломление с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исперсия света, т.е. разложение белого света в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тражение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CAQJWLYN"/>
          <p:cNvPicPr/>
          <p:nvPr/>
        </p:nvPicPr>
        <p:blipFill>
          <a:blip r:embed="rId1"/>
          <a:stretch/>
        </p:blipFill>
        <p:spPr>
          <a:xfrm>
            <a:off x="685800" y="649440"/>
            <a:ext cx="3581280" cy="265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CAS6IV4Q"/>
          <p:cNvPicPr/>
          <p:nvPr/>
        </p:nvPicPr>
        <p:blipFill>
          <a:blip r:embed="rId2"/>
          <a:stretch/>
        </p:blipFill>
        <p:spPr>
          <a:xfrm>
            <a:off x="685800" y="3773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A88XL9F"/>
          <p:cNvPicPr/>
          <p:nvPr/>
        </p:nvPicPr>
        <p:blipFill>
          <a:blip r:embed="rId3"/>
          <a:stretch/>
        </p:blipFill>
        <p:spPr>
          <a:xfrm>
            <a:off x="4952880" y="685800"/>
            <a:ext cx="349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00600" y="1752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Га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ALSSVDP"/>
          <p:cNvPicPr/>
          <p:nvPr/>
        </p:nvPicPr>
        <p:blipFill>
          <a:blip r:embed="rId1"/>
          <a:stretch/>
        </p:blipFill>
        <p:spPr>
          <a:xfrm>
            <a:off x="609480" y="83808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галдо2"/>
          <p:cNvPicPr/>
          <p:nvPr/>
        </p:nvPicPr>
        <p:blipFill>
          <a:blip r:embed="rId2"/>
          <a:stretch/>
        </p:blipFill>
        <p:spPr>
          <a:xfrm>
            <a:off x="609480" y="3733920"/>
            <a:ext cx="350532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гало6"/>
          <p:cNvPicPr/>
          <p:nvPr/>
        </p:nvPicPr>
        <p:blipFill>
          <a:blip r:embed="rId3"/>
          <a:stretch/>
        </p:blipFill>
        <p:spPr>
          <a:xfrm>
            <a:off x="4800600" y="35812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Спектральный к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bmp1b10_05_01_c"/>
          <p:cNvPicPr/>
          <p:nvPr/>
        </p:nvPicPr>
        <p:blipFill>
          <a:blip r:embed="rId1"/>
          <a:stretch/>
        </p:blipFill>
        <p:spPr>
          <a:xfrm>
            <a:off x="914400" y="2057400"/>
            <a:ext cx="2867040" cy="3962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bmp1b10_05_02_c"/>
          <p:cNvPicPr/>
          <p:nvPr/>
        </p:nvPicPr>
        <p:blipFill>
          <a:blip r:embed="rId2"/>
          <a:stretch/>
        </p:blipFill>
        <p:spPr>
          <a:xfrm>
            <a:off x="5257800" y="2057400"/>
            <a:ext cx="287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99ff"/>
                </a:solidFill>
                <a:latin typeface="Arial Black"/>
              </a:rPr>
              <a:t>dispersio</a:t>
            </a:r>
            <a:r>
              <a:rPr b="1" lang="ru-RU" sz="3600" spc="-1" strike="noStrike">
                <a:solidFill>
                  <a:srgbClr val="ff99ff"/>
                </a:solidFill>
                <a:latin typeface="Arial Black"/>
              </a:rPr>
              <a:t> (лат.) – рассеяние, разве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trum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(лат.) -  вúде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2040101"/>
          <p:cNvPicPr/>
          <p:nvPr/>
        </p:nvPicPr>
        <p:blipFill>
          <a:blip r:embed="rId1"/>
          <a:stretch/>
        </p:blipFill>
        <p:spPr>
          <a:xfrm>
            <a:off x="1523880" y="2293920"/>
            <a:ext cx="6096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Газета «Нью –Йорк  Таймс»: Роберт Криз (сотрудник философского факультета университета Нью-Йорка) и Стони Брук (историк Брукхевенской Национальной Лаборатории) – опрос среди американских физиков, чтобы  чтобы определить 10 красивейших экспериментов за всю историю этой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rism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3e20"/>
                </a:solidFill>
                <a:latin typeface="Arial Black"/>
              </a:rPr>
              <a:t>И. В. Ге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Свет Ньюто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это свет,  «измученный всякого рода орудиями пытки – щелями, призмами, линз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gete"/>
          <p:cNvPicPr/>
          <p:nvPr/>
        </p:nvPicPr>
        <p:blipFill>
          <a:blip r:embed="rId1"/>
          <a:srcRect l="2536" t="0" r="6405" b="5668"/>
          <a:stretch/>
        </p:blipFill>
        <p:spPr>
          <a:xfrm>
            <a:off x="457200" y="2133720"/>
            <a:ext cx="312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06-04T17:05:17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